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6FF31-9E06-437C-9554-032355B1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24C2-CB92-4901-B9EE-7DD3FA1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54332-1684-4ACD-8B0D-0F029B3F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8E07-A5E5-45AE-860B-2DAC1AD8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682F2-EB72-4220-862A-2D28C2D3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931D-73C5-4D1A-9C29-8658E7AA0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5AEA-04C1-432B-9FA8-305EE691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5BFC-161B-49E5-B649-EFAABC36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79E44-A091-4F96-A110-DDD0211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8169-38A4-45CD-B751-09436BBB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52C2-8455-4382-B6D5-3333E07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6B947-4880-4006-BFA3-EB0451233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EEA8-4EAD-499D-B25A-5C8E17F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1B5E-7402-4474-B1EC-12A2945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736F4-28D2-454E-BF68-EAA3ED12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E4AA-20D5-4B66-AB5D-82194F71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085A-F61E-4984-AFAB-17FA7C2F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7473-2522-4198-B8DB-7E758AB2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A008-A42E-424C-A9C7-E13C9607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E5CB3-D259-47A7-875E-4C6BB87A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9E64-3E9D-47E4-BF03-A6198915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8C061-41D0-4ADA-92F2-E080812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0A587-14B6-499B-BDB9-C05F547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92AE-6D78-4B5E-8B43-E4E3AAEA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EB23-DA4A-418F-B76B-241048DF7D7F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79f9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EDF8-EDE0-4CE4-B163-2103A58B24E9}" type="slidenum">
              <a:rPr b="0" lang="lv-LV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640" y="1828800"/>
            <a:ext cx="74440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Reģionālās attīstības </a:t>
            </a:r>
            <a:br>
              <a:rPr sz="4600"/>
            </a:br>
            <a:r>
              <a:rPr b="1" lang="lv-LV" sz="4600" spc="-1" strike="noStrike">
                <a:solidFill>
                  <a:srgbClr val="000000"/>
                </a:solidFill>
                <a:latin typeface="Arial"/>
              </a:rPr>
              <a:t>tīspusējās sadarbības apakšpadome (RATSA)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Ziņo: Valda Smirnova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RAPLM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TSA uzdevum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drošināt un veicināt valsts, pašvaldību, darba devēju organizāciju un to apvienību un darbinieku arodbiedrību sadarbību un līdzdalību reģionālās attīstības nodrošināšan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SA 2007.gada darbī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kušas 3 sē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atītie jautāju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sts ilgtspējīgas attīstības stratēģijas izstrā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LM darbības stratēģ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ilnvērtīgu novadu pašvaldību izveidošanu un esošo reģionālo struktūru funkciju pārņemša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pašvaldību informatizāciju un interneta pieejamīb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ajonu reorganizāci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reģionu attīstību Latvijā 2006.gad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oblēmas RATSA darb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0280" y="2004480"/>
            <a:ext cx="7931160" cy="33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alībpuses problēmas neidentificēja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(RATSA 25.02.2008. sē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08.gada sēžu grafi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1.aprīl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Nacionālā attīstības plāna ieviešanas galvenie darbības virzieni 2008.gad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dlīniju projekts valsts, reģionālā un vietējā līmeņa pārvaldes institūcijām plānošanas sistēmas efektīvas darbības nodrošināš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lv-LV" sz="1800" spc="-1" strike="noStrike">
                <a:solidFill>
                  <a:srgbClr val="000000"/>
                </a:solidFill>
                <a:latin typeface="Arial"/>
              </a:rPr>
              <a:t>(OECD LEED un RAPLM izstrādātas)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6.jūnij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ar pašvaldību finanšu izlīdzināšanas modeli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15.sept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un paveikto 2008.gadā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20.okto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lsētu politikas pamatnostādņu izstrādes gaita (Pilsētu politikas pamatnostādņu 1.redakcijas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8.decemb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Valsts pārvaldes dekoncentrācija un reģionālā pārvaldes līmeņa attīstī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Reģionālās politikas pamatnostādņu vidusposma izvērtējuma izskatīšana</a:t>
            </a:r>
            <a:r>
              <a:rPr b="0" lang="lv-LV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437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utājums, kuru būtu jāvirza izskatīšanai uz NTSP sēd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nformācija par administratīvi teritoriālās reformas gaitu 2008.gad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plānotais laiks 2008.gada II pusg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erosinātājs Līvija Marcinkēviča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v-LV" sz="2000" spc="-1" strike="noStrike">
                <a:solidFill>
                  <a:srgbClr val="000000"/>
                </a:solidFill>
                <a:latin typeface="Arial"/>
              </a:rPr>
              <a:t>LBAS priekšsēdētāja vietniece, RATSA vadītājs no LBAS p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Paldies par uzmanību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4T07:27:34Z</dcterms:created>
  <dc:creator>user</dc:creator>
  <dc:description/>
  <dc:language>en-US</dc:language>
  <cp:lastModifiedBy>Sanita Diediske</cp:lastModifiedBy>
  <cp:lastPrinted>2006-08-14T10:58:26Z</cp:lastPrinted>
  <dcterms:modified xsi:type="dcterms:W3CDTF">2008-05-09T08:35:15Z</dcterms:modified>
  <cp:revision>30</cp:revision>
  <dc:subject/>
  <dc:title>Mērķis</dc:title>
</cp:coreProperties>
</file>